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4B3-C5DB-4ADA-BEDD-5AD99AAD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5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840" y="3964320"/>
            <a:ext cx="85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536-52F1-4431-AD8B-F5C7DC1E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96432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560" y="396432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835-8892-40F6-88D4-54609FDB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4200" y="160020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2920" y="160020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840" y="396432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4200" y="396432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2920" y="396432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41D-2535-4A2B-A60A-67F5AD7D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9815-1E6B-4A7B-9A5E-7CCD0A3C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FE68-4D22-4685-8D8E-5F7A05BC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CDB4-8871-4E1F-BEA5-2107856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1F5E-7015-4C48-8C0F-4FAB64E2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E16A-7A53-4245-A3E2-2D8E71BD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74680"/>
            <a:ext cx="91440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0B18-D04C-455C-B70B-7A045802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5840" y="396432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97E7-733E-4D46-AA37-C5DC3E8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FFC-52DB-46BA-AF79-36EAC0C3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560" y="396432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4939-E21F-4DC7-A6D7-E5D92F3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5840" y="3964320"/>
            <a:ext cx="85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D2D8-53E1-4433-92C2-3554ACD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5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5840" y="3964320"/>
            <a:ext cx="85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21B1-852E-4685-96AD-0C41B3F8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5840" y="396432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560" y="396432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6A69-04CD-4EAB-BD93-852671FD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4200" y="160020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2920" y="160020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5840" y="396432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4200" y="396432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2920" y="3964320"/>
            <a:ext cx="276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B75C-3C96-48A2-BE45-1FF981EE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49D-3B1E-4B10-8231-A1CAAEFD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640-4AD3-4947-BE02-22384F1C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CC4-CD48-4D1B-BB44-6B097486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74680"/>
            <a:ext cx="91440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328-39CC-4473-B085-98316759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840" y="396432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BE3-2B50-47CF-8C06-24411A5E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560" y="396432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426-86DF-4C9D-B30D-B75A47A6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600200"/>
            <a:ext cx="418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840" y="3964320"/>
            <a:ext cx="85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718-7D74-4A98-8C1F-6AB3669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H:\графика\asadal\scool\scool\23\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3954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5840" y="1600200"/>
            <a:ext cx="8572320" cy="452592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13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42760" y="635652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BCD7-5DED-41F8-8130-C211B51B4CA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H:\графика\asadal\scool\scool\23\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3954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600200"/>
            <a:ext cx="8572320" cy="452592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13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42760" y="635652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248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EC2E-7631-4029-93DB-14254276A06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428720"/>
            <a:ext cx="9144000" cy="93996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Monotype Corsiva"/>
              </a:rPr>
              <a:t>День Матери!</a:t>
            </a:r>
            <a:endParaRPr b="1" lang="en-US" sz="88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43000" y="2500200"/>
            <a:ext cx="7626240" cy="378648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Без сна ночей твоих прошло немало,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Забот, тревог за нас не перечесть,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Земной поклон тебе, родная мама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За то, что ты на белом свете ес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28880" y="2142720"/>
            <a:ext cx="5929200" cy="1714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Сколько бы хороших, добрых слов ни было сказано мамам, сколько бы поводов для этого ни придумали, лишними они не будут:</a:t>
            </a:r>
            <a:endParaRPr b="1" lang="en-US" sz="2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1360" y="4071600"/>
            <a:ext cx="7561080" cy="242892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«Спасибо вам!.. И пусть каждой из вас почаще говорят теплые слова ваши любимые дети! Пусть на их лицах светится улыбка и радостные искорки сверкают в глазах, когда вы вместе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29998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Ведь мама- это нежность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Мама- это ласка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Мама- это доброе сердце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Мама- это прощение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Мама- это МАМА!</a:t>
            </a:r>
            <a:br>
              <a:rPr sz="3200"/>
            </a:br>
            <a:endParaRPr b="1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Дата 3"/>
          <p:cNvSpPr/>
          <p:nvPr/>
        </p:nvSpPr>
        <p:spPr>
          <a:xfrm>
            <a:off x="214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F0E-5889-41A0-B220-4D8CAB8F22BD}" type="datetime">
              <a:rPr b="1" lang="ru-RU" sz="1200" spc="-1" strike="noStrike">
                <a:solidFill>
                  <a:srgbClr val="7f7f7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7248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A973-06C8-4805-880A-F8248577308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187280" y="1450800"/>
            <a:ext cx="662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Мама — первое слово,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Главное слово в каждой судьб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Мама жизнь подарила,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Мир подарила мне и тебе.</a:t>
            </a:r>
            <a:br>
              <a:rPr sz="4000"/>
            </a:b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AllDay"/>
          <p:cNvPicPr/>
          <p:nvPr/>
        </p:nvPicPr>
        <p:blipFill>
          <a:blip r:embed="rId1"/>
          <a:stretch/>
        </p:blipFill>
        <p:spPr>
          <a:xfrm>
            <a:off x="1000080" y="4786200"/>
            <a:ext cx="757260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B5D2-C67B-4A63-A640-BC004659AC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B91E-A3C2-4D7C-B2D6-604B6ABEE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28760" y="2281680"/>
            <a:ext cx="828036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ет, навер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и одной страны, где бы не отмеча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ень Мат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В России День матери стали отмечать сравнительно неда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Установленный Указом Президента Российской Федерации Б. Н. Ельцина № 120 «О Дне матери» от 30 января 1998 года, он празднуется в последнее воскресенье ноября, воздавая должное материнскому труду и их бескорыстной жертве ради блага своих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669A-7B87-41B7-A7FA-6A6B535C38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B932-2A41-41A9-AAD4-AFD3D4B94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71720" y="1797480"/>
            <a:ext cx="8072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Новый праздник —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 — постепенно входит в российские до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И это замечательно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сколько бы   хороших, добрых слов мы не говорили нашим мамам, сколько бы поводов для этого ни придумали, лишними они не буду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CA1E-9E5A-42AD-BA98-9142F73662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1BE0-C1CA-487F-80DA-851D16C939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85880" y="1890720"/>
            <a:ext cx="775008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ИСТОРИЯ ПРАЗДНИКА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Чествование женщины-матери имеет многовековую истор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По некоторым источникам традиция празднования Дня матери берет начало еще в женских мистериях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ревнего Рима,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предназначенных для почитания Великой Матери - богини, матери всех богов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.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AB9-0BFD-4953-A2C3-78C132E803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7578-40CA-4169-BFBF-029C626D3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28800" y="2669040"/>
            <a:ext cx="73213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С XVII по XIX век в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еликобритании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отмечалось так называемое «Материнское воскресенье» — четвёртое воскресенье Великого поста, посвящённое чествованию матерей по все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4237-0D22-4975-A1D1-AEF1C62F297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93FB-E52B-443B-A52A-893807BFA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143000" y="2708280"/>
            <a:ext cx="782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В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ША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«День матери»     — день единства матерей в борьбе за мир во всём мир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В 1910 году штат Виргиния первый признал День Матери официальным праздником. В 1914 году, президент США Вудро Вильсон объявил второе воскресенье мая национальным праздником в честь всех американских мат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879E-5C0F-4557-BDDB-37EFA10E3D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430-AADA-48B5-92D2-15E2183C1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214280" y="1369800"/>
            <a:ext cx="76788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День Матери во второе воскресенье мая отмечают также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альта, Дания, Финляндия, Германия, Италия, Турция, Австралия, Япония. </a:t>
            </a:r>
            <a:br>
              <a:rPr sz="28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Мальтийцы отмечают День матери с незапамятных времен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        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В Эстонии День матери отмечают с 1992 года во второе воскресенье мая. В этот день вывешиваются флаги. Накануне в детских садах проходят утренники, а в школах - концерты для мам; дети дарят мамам открыточки и пода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454F-F601-4E18-BD31-4BC700FCA8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00DC-DB82-4DCE-99E2-873EAB55F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143000" y="1347120"/>
            <a:ext cx="7388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Среди многочисленных праздников, отмечаемых в нашей стране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нь Матери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занимает особое место. Это праздник, к которому никто не может остаться равнодуш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В этот день хочется сказать слова благодарности всем Матерям, которые дарят детям любовь, добро, нежность и лас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8:52:16Z</dcterms:created>
  <dc:creator>фтв</dc:creator>
  <dc:description/>
  <dc:language>en-US</dc:language>
  <cp:lastModifiedBy>Admin</cp:lastModifiedBy>
  <dcterms:modified xsi:type="dcterms:W3CDTF">2012-01-15T15:19:35Z</dcterms:modified>
  <cp:revision>13</cp:revision>
  <dc:subject/>
  <dc:title>Мы будем вечно прославлять ту женщину, чьё имя – мать. (Праздник в 7 классе «В» 4 декабря 2009 года.)</dc:title>
</cp:coreProperties>
</file>